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7E4-0C6C-4B4F-A344-161A54F2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BFB-A75A-4AF5-8BED-6F9574D7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A57-D6A2-4BA8-BFEA-E278F1E9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2E2-8B0A-4EB4-9319-7DD4282A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7296-87A1-4CC4-A0A3-F7BC8A87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BCF-360F-4FD1-842F-1303626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264-82A1-4EEA-A2F7-C127FCD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CE8-F061-4CDB-87AE-547F2C9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192B-8385-4111-835F-1AB0C82E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38CE-63E7-43DF-969D-5D1A9DD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B034-57F9-491B-8D53-DDE2A17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504-2F7C-4123-8477-7A7E506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873-3AE0-45C6-B7AD-C13930C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1BEF-EB03-47D6-8680-D512E29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F280-C4D8-4099-8695-0AA21474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94FC-0833-4818-B8E9-2E0623CC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79BA-5ACA-4E48-9456-176A8553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64C1C-079A-4A53-9749-EA4A24D5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022D0-A341-454D-8FD4-872F1AF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4014B-B83F-4695-800C-6783FF0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9080C-AD73-406C-B85F-A67448B7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DD609-D0F1-4C4C-AFC1-9DABE95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995-7C3E-4742-9297-EDCD637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E572C-BF13-4AD4-8538-002AAD0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36199-89AD-4476-822F-8394C14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425A9-3C68-4207-B1C4-7A4FB54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B3A07-6A8D-4686-812E-EF7B9BF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76D82-5729-4334-B4E3-7CF37C9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AC12E1-DFF7-4586-85D3-D00A1627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71A92-78C4-4818-9ACE-6BB30112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6A8D-A6EA-45B4-8D92-3DF23841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EBC6-D9F0-4F99-BE3D-C3ECE6F2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82FA-00A8-4D4E-9BCF-FB68BFE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297-C8D6-4BBC-8600-0B9357D4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510A-2F40-4949-9AEF-E44B733D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1F4A-77E9-4E07-9806-7E77606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4DC6-EC93-472E-8502-79DE348D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147A-781F-4096-858E-36B06C3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69DB-3248-4C1C-AA6E-EC7E512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71DA-8333-4D14-9D58-E0E1F46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08C87-F4C1-466E-8A0D-B2DCC67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055C-B0AC-4D2A-8097-5AE6F04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D128-87E6-4663-AAC8-97771817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17F-C2FF-4888-9567-CACC59DC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062-D5C6-4340-B932-F7823E7A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9A6-00B9-4C8C-8C2F-E79CF49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86D-029C-493A-A791-2B3286D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111-CDA8-4683-B900-537274D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C3C4-5D4A-4810-BC30-8EC694FBE434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FFBC-05BA-435B-BDED-CEAA252313E5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5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818A-A07B-43EB-AE51-F69205E51CF7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D4D-1464-4C36-8466-EFDA3E7EAB4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  <a:ea typeface="宋体"/>
              </a:rPr>
              <a:t>By: Jennifer Zou, Jason Xiao, and Magdalena Wierzbowsk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  <a:ea typeface="宋体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cc00"/>
                </a:solidFill>
                <a:latin typeface="Harrington"/>
                <a:ea typeface="宋体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  <a:ea typeface="宋体"/>
              </a:rPr>
              <a:t>S.S Per.1 / Mr.Griffith / Rm.13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993366"/>
                </a:solidFill>
                <a:latin typeface="Arial"/>
                <a:ea typeface="宋体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  <a:ea typeface="宋体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836640" y="2438280"/>
            <a:ext cx="70992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2120" y="272520"/>
            <a:ext cx="87012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5818e"/>
                </a:solidFill>
                <a:latin typeface="Arial"/>
                <a:ea typeface="宋体"/>
              </a:rPr>
              <a:t>          </a:t>
            </a:r>
            <a:r>
              <a:rPr b="0" lang="en-US" sz="4400" spc="-1" strike="noStrike">
                <a:solidFill>
                  <a:srgbClr val="45818e"/>
                </a:solidFill>
                <a:latin typeface="Arial"/>
                <a:ea typeface="宋体"/>
              </a:rPr>
              <a:t>Russia's New Gover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d966"/>
                </a:solidFill>
                <a:latin typeface="Arial"/>
                <a:ea typeface="宋体"/>
              </a:rPr>
              <a:t>Russia is still learning on how to act in their new gover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  <a:ea typeface="宋体"/>
              </a:rPr>
              <a:t>Before, the Russian leaders could do whatever they 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  <a:ea typeface="宋体"/>
              </a:rPr>
              <a:t>They also got to punish any people who would criticize their desc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e06666"/>
                </a:solidFill>
                <a:latin typeface="Arial"/>
                <a:ea typeface="宋体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  <a:ea typeface="宋体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134f5c"/>
                </a:solidFill>
                <a:latin typeface="Arial"/>
                <a:ea typeface="宋体"/>
              </a:rPr>
              <a:t>Russia has many different ethnic groups.Some groups want to form their own countries seperate from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45f06"/>
                </a:solidFill>
                <a:latin typeface="Arial"/>
                <a:ea typeface="宋体"/>
              </a:rPr>
              <a:t>One of these groups are the Chechens. They live in Chechnya close to the Caspian Sea in the southern part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The Russian troops have fought the Chechen forces to still keep Chechnya a part of south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fc5e8"/>
                </a:solidFill>
                <a:latin typeface="Arial"/>
                <a:ea typeface="宋体"/>
              </a:rPr>
              <a:t>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  <a:ea typeface="宋体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1760" y="1279440"/>
            <a:ext cx="8701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Here is a map showing some different ethnic groups in Russia including Chechnya(Chechen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             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  <a:ea typeface="宋体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211400" y="2057400"/>
            <a:ext cx="5624280" cy="463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61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  <a:ea typeface="宋体"/>
              </a:rPr>
              <a:t>Good Things About Present Russi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  <a:ea typeface="宋体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  <a:ea typeface="宋体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7162920" y="5433840"/>
            <a:ext cx="152388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onotype Corsiva"/>
                <a:ea typeface="宋体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  <a:ea typeface="宋体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  <a:ea typeface="宋体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Kunstler Script"/>
                <a:ea typeface="宋体"/>
              </a:rPr>
              <a:t>          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  <a:ea typeface="宋体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  <a:ea typeface="宋体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  <a:ea typeface="宋体"/>
              </a:rPr>
              <a:t>Free Market Economy /Free Enterprise Syste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People can open busin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Chose their own care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  <a:ea typeface="宋体"/>
              </a:rPr>
              <a:t>Workers can lose their jobs when a business dec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  <a:ea typeface="宋体"/>
              </a:rPr>
              <a:t>Governm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Prices have ris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Government no longer sets prices for foods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  <a:ea typeface="宋体"/>
              </a:rPr>
              <a:t>Federal republic/ democra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  <a:ea typeface="宋体"/>
              </a:rPr>
              <a:t>Government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Power is divided between national and state governmen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A President leads this n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  <a:ea typeface="宋体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  <a:ea typeface="宋体"/>
              </a:rPr>
              <a:t>Other Fact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About 75% of Russia’s people live in c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  <a:ea typeface="宋体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fe1f08"/>
                </a:solidFill>
                <a:latin typeface="Curlz MT"/>
                <a:ea typeface="宋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  <a:ea typeface="宋体"/>
              </a:rPr>
              <a:t>Facts continued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Pollution is made by dirty smoke and dumped pois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Air pollution  causes many people to suffer from lung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The life expectancy is shorter because of canc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90% of the people speak Russian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  <a:ea typeface="宋体"/>
              </a:rPr>
              <a:t>Many prosperous people live in Mosco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00"/>
                </a:solidFill>
                <a:latin typeface="Arial"/>
                <a:ea typeface="宋体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  <a:ea typeface="宋体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  <a:ea typeface="宋体"/>
              </a:rPr>
              <a:t>They also polluted the air, water, and land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Arial"/>
                <a:ea typeface="宋体"/>
              </a:rPr>
              <a:t>Now Russia is using nuclear energy plants. Even though they don’t pollute the air, they leave dangerous by-produc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6" dur="2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8" dur="2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90" dur="2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ff"/>
                </a:solidFill>
                <a:latin typeface="Arial"/>
                <a:ea typeface="宋体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9383b3"/>
                </a:solidFill>
                <a:latin typeface="Arial"/>
                <a:ea typeface="宋体"/>
              </a:rPr>
              <a:t>Here are some pictures showing these environmental problems in Russi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  <a:ea typeface="宋体"/>
              </a:rPr>
              <a:t>These are factories giv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宋体"/>
              </a:rPr>
              <a:t>out gas (right). An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宋体"/>
              </a:rPr>
              <a:t>(left) are nuclear power pl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79760" y="3086280"/>
            <a:ext cx="4764240" cy="31734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2767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6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99"/>
                </a:solidFill>
                <a:latin typeface="Arial"/>
                <a:ea typeface="宋体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宋体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Now most people are suffering from lung diseases. This shows that Russia’s population is becoming less healt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total population: 66.39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male: 59.91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female: 73.27 years (2004 est.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jimmy</cp:lastModifiedBy>
  <dcterms:modified xsi:type="dcterms:W3CDTF">2010-12-21T00:17:46Z</dcterms:modified>
  <cp:revision>12</cp:revision>
  <dc:subject/>
  <dc:title>Present Day Russia</dc:title>
</cp:coreProperties>
</file>